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3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8280" y="6597720"/>
            <a:ext cx="35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istributed XML Schema Dictionary Architecture  (20</a:t>
            </a:r>
            <a:r>
              <a:rPr b="0" lang="fr-FR" sz="800" spc="-1" strike="noStrike" baseline="30000">
                <a:solidFill>
                  <a:srgbClr val="ffff99"/>
                </a:solidFill>
                <a:latin typeface="Arial"/>
              </a:rPr>
              <a:t>th</a:t>
            </a: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 Jun 20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3E1904A1-0A23-4D10-A3A0-8F51E70BD63B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lejandro.nicolas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2797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istributed XML Schema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64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105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118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131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Dia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53200" cy="446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ctionary Resource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790640"/>
          <a:ext cx="884232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0640"/>
                    <a:ext cx="884232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 Intera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77368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creation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1773360"/>
          <a:ext cx="403848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48320" y="3967200"/>
          <a:ext cx="403848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96720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-71280" y="1557360"/>
            <a:ext cx="514800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look-up rule de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18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230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243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256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258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27640" y="5275800"/>
            <a:ext cx="42732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506160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76452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547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323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67544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9160" y="515520"/>
            <a:ext cx="357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Questions &amp; Answers</a:t>
            </a:r>
            <a:endParaRPr b="0" lang="en-US" sz="28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360" y="2340000"/>
            <a:ext cx="3809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50920" y="1555920"/>
            <a:ext cx="8642160" cy="4968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420040" y="615960"/>
            <a:ext cx="473040" cy="436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00720" y="588960"/>
            <a:ext cx="496800" cy="458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87280" y="16995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omic Sans MS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9800" y="6093000"/>
            <a:ext cx="31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Comic Sans MS"/>
              </a:rPr>
              <a:t>http://www.europa.oami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8000" y="1184400"/>
            <a:ext cx="8856720" cy="228600"/>
            <a:chOff x="108000" y="1184400"/>
            <a:chExt cx="8856720" cy="228600"/>
          </a:xfrm>
        </p:grpSpPr>
        <p:sp>
          <p:nvSpPr>
            <p:cNvPr id="292" name=""/>
            <p:cNvSpPr/>
            <p:nvPr/>
          </p:nvSpPr>
          <p:spPr>
            <a:xfrm>
              <a:off x="108000" y="1184400"/>
              <a:ext cx="755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28000" y="1184400"/>
              <a:ext cx="93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3:50Z</dcterms:modified>
  <cp:revision>1860</cp:revision>
  <dc:subject>TM-XML</dc:subject>
  <dc:title>TM-XML Prsentation to SCIT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